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029-5130-4EFD-B95B-ABD5F8C3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C78-BE84-4598-9D57-D2972D24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279-CB2F-45A2-8484-9B6291E6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EB6-7FD3-47AA-BD9E-63C02FFF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8D9-70BF-4CFC-A62C-4379174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FE7-381C-4303-AF3F-520D729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5C9-322A-4894-B001-3A4885B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A37-E533-414B-A3E3-7E5AE51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466-99EC-48AF-977E-2DDC547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661-5A23-4C6E-A4D2-D129F63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989-AE2E-43A5-ADEA-7AB7F9E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61C-F247-4574-B291-7B34C3C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F65B-A28A-4709-B7E5-DFB85E8D94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E49-70F9-4A75-9831-F1374BF8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in.ufpe.br/~fatc/ACI/JanelaParzenKVizinhos.pdf" TargetMode="External"/><Relationship Id="rId2" Type="http://schemas.openxmlformats.org/officeDocument/2006/relationships/hyperlink" Target="http://www.cin.ufpe.br/~fatc/ACI/JanelaParzenKVizinhos.pdf" TargetMode="External"/><Relationship Id="rId3" Type="http://schemas.openxmlformats.org/officeDocument/2006/relationships/hyperlink" Target="http://www.vision.ime.usp.br/~nina/cursos/ibi5031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164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ta do trabalh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senvolver e testar o classificador descrito em (Gadanho 1999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nanda Monteiro Eli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226, Professor: C. H. For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753-0144-4F1E-949A-239AAB3391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luências emocionais [-1,1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emocao [j] &gt; ActivationThresh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[i] = A[i] + Cef [j][i] * emocao [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não A [i] = 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0" y="422064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tivationThreshold=0.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414648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DAD-0C8D-4004-B710-4EAC817F10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istema hormonal: [-1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 todos os hormônio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em é maior: a influência emocional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atual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o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hormôn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 passo anterior? A emoção está acabando ou subindo?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“Me machuquei agora ou an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hormônio for maior ou ig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09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nã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a=0.9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rmônio[i]=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 alfa*H[i]+ (1-alfa)*Ant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[] Influência Emocional do passo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4A6-7A5C-4320-940D-A1DC4875D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Valores hormonai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sistemas de diferentes parâme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quando as emoções e suas influ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decay gain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3200" spc="-1" strike="noStrike">
                <a:solidFill>
                  <a:srgbClr val="333399"/>
                </a:solidFill>
                <a:latin typeface="Arial"/>
              </a:rPr>
              <a:t>attack ga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muito mais alto do que 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ecay gain.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a queda das emoções é lenta enquanto que a emergência de novas emoções é mais ráp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561960" cy="66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99960" cy="942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51444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3DF-549D-438E-85CD-0CCF013F3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 Sistema Hormonal [-1,1]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Quanto mais forte for a dependência sobre certo sentimento, maior será a quantidade produzida, pela emoção, do hormônio associ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59640" y="0"/>
            <a:ext cx="44928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2A1-081F-4BBD-A5EF-9C3B37BA1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20520"/>
            <a:ext cx="397368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1BD-4437-488B-9696-8E06F4A75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 dos pesos: “agente otimis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entiment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que influenciam a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felicidade </a:t>
            </a:r>
            <a:r>
              <a:rPr b="1" i="1" lang="en-US" sz="32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emperatura, comendo e che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 de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temperatura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e do uso dos motores, sendo então o mais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Único a ser alterado para se obter um agente “otimist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odos os outros pesos originais serão mantido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AC6-5653-4259-8741-0F12E700C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cc"/>
                </a:solidFill>
                <a:latin typeface="Arial"/>
              </a:rPr>
              <a:t>Teste dos pesos, CEF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0080" y="2492280"/>
            <a:ext cx="9043920" cy="20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5DE-6465-4B9F-9676-E9E199C239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o  0.2, peso 0.6, peso 0.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: 2216 itera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909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282840"/>
            <a:ext cx="4749840" cy="3575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42609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16360" y="0"/>
            <a:ext cx="4154760" cy="38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E11-1E97-45EC-B1A2-7813446772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gente “Otimista”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00240"/>
            <a:ext cx="4791240" cy="385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3048120"/>
            <a:ext cx="452448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 0.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so 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B1C-BD1A-421B-A3D0-602D6CF40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640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ção line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7410600" cy="570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9CE-A69F-440B-AADA-3A0B08EDC9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NA’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stema computacional constituído por neurônios, que são elementos processadores interligados, trabalhando em paral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 principais áreas de atuação são: classificação de padrões e previs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s pesos representam a experiência ganha como resultado das n-apresentações dos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útil quando o ambiente gerador dos dados muda constante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477-75B2-47C1-9272-825586DED6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Referênci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] Cardoso, Renata; Carvalho, Francisco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esso: 10/04/2008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.ufpe.br/~fatc/ACI/JanelaParzenKVizinho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2] Damásio, A. R. (1994): Descartes’Error: emotion, reason and the human brain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York: Pengu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3] Forster, C. Aulas e material da disciplina CC226: ITA, SJC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danho, S. C. and Hallam, J. (1998): Exploring the Role of Emotions in Autonomous Robot Learning. In AAAI Fall Symposium | Emotional and Intelligent: The tangled knot of cognition, Technical Report FS-98-03, pages 84- 89. AAAI P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5] Gadanho, S. (1999): Reinforcement Learning in Autonomous Robots: An Empirical Investigation of the Role of Emotion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D thesis, University of Edinburg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] Hirata, Nina S. T. Acesso: 10/04/2008. I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ision.ime.usp.br/~nina/cursos/ibi503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7] Mingoti, Sueli Aparecida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nálise de dados através de métodos de estatística multivari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UFMG, Belo Horizonte: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8] Zuben, Fernando e Castro, Leandro. Regressão paramétrica e não paramétrica, e redes neurais do tipo RBF. Acesso: abril de 2008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 &lt;ftp://ftp.dca.fee.unicamp.br/pub/docs/vonzuben/ia353_03/topico8_03.pdf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9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goritmos de aprendiz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Acesso: 12/05/2008. In: &lt; http://www.ica.ele.puc-rio.br/cursos/download/DM-backpropagation.pd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0]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es neurais artificiai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Vellasco, Marley Maria Bernardes Rebuzzi. Acesso: 12/05/2008. In: &lt; http://www.ica.ele.puc-rio.br/cursos/download/ICA-introdu%C3%A7%C3%A3o%20RNs.pdf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11] Descoberta de conhecimento em base de dados de monitoramento ambiental para avaliação da qualidade da água. Silva, Inara Apar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:&lt; http://pgfma.ufmt.br/pagina/index.php?option=com_docman&amp;task=doc_view&amp;gid=9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317080" y="2602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861-30F4-482B-AC48-B677CEE3B7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gerador dos dado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simula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43560" cy="413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10160" y="2565360"/>
            <a:ext cx="453384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430-C2AE-4999-BF12-85123E295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três comportamentos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íveis para o rob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ndos baseados nas leituras dos sens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670480" cy="2470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693900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2E8-96A8-40A5-A1E0-76F1FA91E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37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450072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1658880" cy="62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045040" cy="4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C1F-4412-4787-89EC-2E98DB99C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58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pecificações para as entradas/sensações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éficit de energia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ar a com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uando o robô está adquirindo energ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 o robô estiver trombando em algum ob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mperatur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com alto uso do motos e retorna a zero com baixo u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nsaç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menta se o robô não se mover e é zerado quando o robô seleciona algum comport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lfa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ó se houver fonte de comida dispo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quecimen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ente da intensidade de luz percebida pelos sensores de luz do rob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ximidad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ximidade do obstáculo mais próximo percebido pelos sensores de distâ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81160" cy="14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66A-4065-4EBB-BD18-E2138A8EEA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CEF’s: Dependências das emoções/ sentiment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obô está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ada há de errado. Estará mais feliz se estiver usando muito seus motores ou  obtendo energia. Até mesmo o cheiro de comida pode torná-lo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e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ver pouca energia e não a estiver obtend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cará ainda mais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tri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não puder captar qualquer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ombar em qualquer obstáculo, então a dor fará com que sinta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me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erá menos medo se estiver com fome ou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robô faminto tende a ficar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ervo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5224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E0A-1499-4DE9-92C6-11349AF237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ntimentos” [0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eficienteHormonal = 0.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timento [i] = CoeficienteHormonal * H [i]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sensacao[i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ntimento[i]&gt;1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o[i]=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ão  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ntimento[i]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timento[i]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590400" cy="704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093080" cy="14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C17-4F91-4A2C-8BB0-E3AE49AA21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moção= bias + Cef [i][j] * sentimento [j]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intervalo: [0,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17080" y="33336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5300640" cy="39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0A9-83AB-4D7B-B936-2AD0499DCC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4:52:21Z</dcterms:created>
  <dc:creator>user</dc:creator>
  <dc:description/>
  <dc:language>en-US</dc:language>
  <cp:lastModifiedBy>user</cp:lastModifiedBy>
  <dcterms:modified xsi:type="dcterms:W3CDTF">2008-06-10T15:15:46Z</dcterms:modified>
  <cp:revision>52</cp:revision>
  <dc:subject/>
  <dc:title>Slide 1</dc:title>
</cp:coreProperties>
</file>